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4CE-C5B6-4A8F-B98B-62546F6E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CBA-0D42-4046-949E-8E2A0DA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78E-92F8-41AA-926E-ECD2D937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154-DECE-46C5-A048-647ADB5D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97C-CDFD-4DE2-A1D5-4C81034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359-3186-4EE1-8657-CE895B05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C4F-2889-4C77-9121-945EA41D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E71-80D0-4277-B1B0-1B2481F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DEA-E985-45F5-AF0F-01CBAAE6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582-F37A-4A43-90C3-2FAEA3D6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ADA-BF91-4221-B31C-1FA61034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672-F07D-4DE4-AC36-F4648F0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D7E-8307-4D73-A1FA-5001D9B5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447920"/>
            <a:ext cx="8153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4f6363"/>
                    </a:gs>
                  </a:gsLst>
                  <a:lin ang="5400000"/>
                </a:gradFill>
                <a:latin typeface="Times New Roman"/>
              </a:rPr>
              <a:t>IS THE HEAT ON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4f6363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24480" y="1904760"/>
            <a:ext cx="2819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heat needed to support life?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85588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25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se are the enduring questions we’ve been exploring as we study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warmer climates maintain a better quality of lif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8098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is heat transferred?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181480"/>
            <a:ext cx="3581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role does insulation play?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752480"/>
            <a:ext cx="67820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are an engineer for Survivor International.  Your task is to build a device that will utilize the sun’s energy for people who find themselves in a survival situation.  Your prototype could be the start of a new revolution in tapping the sun’s power to replac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Design Challeng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43200" y="2286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are the factors that limit solar heat transfer?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34340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ow does the Earth’s rotation and the sun’s position affect heat and temperature on Ear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81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809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876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9625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4800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5851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733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04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1447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77320" y="54864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85144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733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14300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effect does solar energy have on light and dark materials, and how can we make use of this effec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590920"/>
            <a:ext cx="57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effect does solar energy have on different materials, such as glass, plastic, and me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7913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role does geographic location play?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esig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an innovative form of technology that will utilize solar power to transfer heat energ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36232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Ah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28680" y="379080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e and choose your technology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8600" y="5257800"/>
            <a:ext cx="61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deeply to answer reflection 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28680" y="579132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ally present your project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28680" y="3124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igate solar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28680" y="4457880"/>
            <a:ext cx="74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as a team to develop a plan, blueprint, or model of your new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624852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 scientific processes (ie the Scientific Meth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esign Challenge Quest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can I harness solar energy and transfer it to energy that can be used in everyday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36232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Ah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8680" y="379080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5029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Variables, Label Any Measurements and Make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86728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Results and Conclu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8680" y="3124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othe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8680" y="4457880"/>
            <a:ext cx="74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Material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Oral Pres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52388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your design; its parts and how the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Concise Use of Voice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, Non-verbal Expression, and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usiasm and Ex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062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Administrator</cp:lastModifiedBy>
  <dcterms:modified xsi:type="dcterms:W3CDTF">2007-12-18T14:15:29Z</dcterms:modified>
  <cp:revision>32</cp:revision>
  <dc:subject/>
  <dc:title>PowerPoint Presentation</dc:title>
</cp:coreProperties>
</file>